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0CD-18D5-487B-90D4-445584D3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714-75BB-4812-8927-892629D6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F60FD-63F2-4FFD-A35D-5359C71B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E3024-618F-4ADD-9BD9-47B39321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2F8B6-F58F-4721-8E2D-BA629128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C3A78-AE82-4F7A-B6D9-FA292A34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5009F-0CFA-4BFD-A62F-4DC087EE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93136-5E3D-4997-8DF4-8C46666D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C3C3E0-0984-4A2C-B520-C8EC4F90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C4B98-941C-47F8-B704-C496C67E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D4B21-B126-47C1-B4B7-CF1BCF14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3ECD8-EE9E-40A8-9F35-83E9EC03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29C-FBFA-4759-93DC-C834611A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1B5DD-C0F7-4906-AA48-CEAE4434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894D9-DAA6-4EFC-A546-034A0AC3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39591-6ED7-4EAB-A358-3119B94B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7B63A-82ED-4F9E-9B31-3DA66DA6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1B8F4-7022-44AD-8244-EEC1990A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CF1AB-938D-4102-A5D2-2B85858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8219E-FA59-42C6-BF5D-FA8BDE6E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E792C-A0B8-4B82-959F-DC6B5CCB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E1C6A-C136-4958-9C71-546713F2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0A24CA-F031-47DA-A0DD-65B4FF76A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E5E-6A5F-4011-8C48-FB09F3F3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D407C-0BC9-4BC5-AEED-B5F5430B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E9D95-1236-4B82-A0C1-A822CB83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561B9-AB7F-4C1B-AFF0-5E48C719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A6D9A-799E-4FC8-A6AE-37F34A8A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D2C81-DDB8-4921-B575-FD963041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ACDE6-A0AE-4C0B-BA7E-56640AF1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86950-241E-4E37-9E66-38108796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E74AA-3906-4BC5-8413-6F2FCB81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C1362-66C2-4CCC-B35C-177B0699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461A04-13E3-4010-86C4-EDA691F6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5EA1-B989-49D3-8BB3-BBAC11E1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B5D52-4E0C-4EC9-83BF-3B60F871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1DB1F-5761-43EB-A6ED-2DEC9926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A3227-77F4-451A-A784-707E9921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E88E0-4CAE-488F-8EA7-32756E6A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14CA9-3346-4F8D-92D3-64047630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0BF94-1A45-44B5-ADFD-EF118926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744B1-D116-4761-9866-C4667514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68638-53EC-40C8-B353-E49EEA43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1EC9D3-61B0-4424-BC33-33ACD4D3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1AEEBA-C0B4-41FB-BC80-C1DDE86E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229D-708D-4B53-9386-FC87D7E9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5FBF9-1E4C-468A-87A5-3D5939D3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D5347-FFD7-4864-A4C1-EEF76B1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0877B-0DED-4EA0-B95A-53FAE9EA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3ABC1-56B1-4D3C-8D33-B9F0EDEC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108C3-07B2-4EB2-9BD3-399EC140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89451-8CE5-4739-B191-4D0E8654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EEF1C-042C-4755-B99A-409FB226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1C088-60A8-4C47-ADCD-D5E25B19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1C2FC-1297-4B39-99F2-14FF8710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63048-8B1B-4433-874A-6B0E37E4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877C-DE61-4521-AE97-B8DFDAAD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C6C1B-3B68-4878-9727-1926EB04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E34DC-A541-4578-9D23-9EDC3954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D825E-095A-4D1C-B888-BDE6EDCB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8FE75-1A72-4B38-A7F9-D64A55A5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26D71-EC6A-480A-8039-18F9758A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01949-DA49-4966-8F17-1D865B65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731ABD-E3CD-49EF-A004-3F5DF56C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FE064-E8ED-4B24-94CE-3C835471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87AB3-9C5A-49DD-9D3B-0A7A6C22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44ED8-3C52-440C-B560-EE124EDC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8BD4-7956-4A44-9ABD-2D393F60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9731CF-E092-49C7-9838-1675FA7A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ABBD59-7408-49D3-95A5-B6097651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D9417-B335-4972-95FA-0233BB84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A6583-7FB1-48A4-BF74-EE31CA36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B37A8-6A17-446C-A1E2-461535F3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372553-744F-4368-8B24-9FEF03A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30E57-F97C-404C-8D58-89AD0FDF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B9E0E-37BC-44E9-9339-3E5F6129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ED0EE-EF77-467C-9077-AF4C7687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93364-8BDC-47F5-AA5D-617D1839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5D762-523B-4CCC-A20E-7AA83F33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22D6B-1E9E-44E3-B975-244B544E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8D2F9-17DB-4311-90A4-341426EB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0BF1A-F558-42B6-998F-DF068746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0A1CE-01C2-49DB-AC72-BCA1EE2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EE8BE9-2FDF-47C4-B915-79F6DC18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09775-BA31-4DC2-8567-04F1D7F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8AA2B6-C5EA-4C40-BC49-5FA7EA80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BD51B-B3F0-4D3F-9FB7-00D3E5D3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7B3246-DF99-4797-BBB3-93352391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13819-FF2B-4279-A260-2CED04AE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1103-494B-4393-A573-0DBD4CB6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DD822-8432-45AB-9AD9-4B2BF100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13BC77-CB54-48FE-ACDD-D5011D2C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CFBA2D-53EB-4662-8CD1-E4C93572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13C553-6BB0-4E3D-8A73-9E4E84F0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215EF-0341-405A-B750-660546CD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413DD-6829-41CC-B961-484E8834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F7E04C-2FFC-4B8B-ABF9-E3A2F221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245ED5-6A6B-4444-B163-A9852832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FD0EBE-6534-4623-89D5-9C53B026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E2D832-A5E0-4C83-960B-613E090A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39B5-C0A4-4FB2-A8A4-1126CF1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5AB7C-874E-44FD-A970-365D3E60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FB3DE-81B7-4894-B8AA-5D921A58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32EED-0021-472F-B909-47C37BD9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408671-E62D-4B49-A738-4FD8F77B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BCE549-B578-4B4E-9BE1-C6D753A0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9817E-9DF1-4920-98C1-45AE8FFE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4750FE-794D-4266-95A9-65B7BDBD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6CBAAB-274D-4DB2-A0AC-E33D15D0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BA2B2-3579-4E93-A0A1-1683F056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C7F26D-9D16-431D-9778-99EE27E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82B-1A1D-4E47-A86E-FA85B784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ABF6-1309-403C-9D98-69E1952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E9A0F0-539C-452E-9390-D5FE05C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45ABF-7499-44C1-94D2-6934E9BB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65A37F-CCCC-4C9A-A5B3-39FC93C9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03183F-0459-4654-B5C4-F9E864BA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0BD7C9-BB26-41D6-8EEB-70432FE49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8FB63D-F8F6-41FB-AFDC-8AC259655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BD504A-EB7D-4D5C-A8C6-D164D444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74BE8C-FDDD-4056-A240-544F315E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90D54-4F2A-491B-B007-3C70EC92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7022B-F7FF-4E40-8EDF-801399A3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FF17-9D5E-4C0F-BF66-89E4836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5D100-0C2B-4581-A4A6-C69D8311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3D2AD-7D8F-4DBA-8A05-0B418CDD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68737-A071-4F36-B487-4C5FF32F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86F65-F9F4-4101-8ED8-1B043109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A2D4C-4171-4020-8EA5-74B0F5A7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FC2D7-2FA4-43AF-BB53-FCF1BE47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402D41-BFA0-4511-8B31-AA0685D2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69590-60B8-42B8-86AD-902EF561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F2B578-3B8E-471D-A745-F8DC120C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127156-6AA2-4672-BE65-12A21453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4CC7-78F6-4500-8AEC-C9B5E3FF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5CBC4-0D6F-4803-BB73-6669AD56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53B409-0FEE-47A0-A4F4-A4AEBE63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74272D-BED6-4343-8BD1-99043F68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EE9FC-F439-46C9-BE6C-E3AEAC02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CAA50D-CF9B-429C-BB9C-206CDD2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0A2F8-1F17-4CFD-9817-5CBB3D19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BDB05A-E91E-4867-B540-3E6258DD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C3554D-E0E3-4177-B396-B64179FF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7C69D-D397-47F9-93CC-6C28FF61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8B5AE-A239-4F83-AF87-52CB7DD3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AABF-18D9-4BCE-873D-455183E7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EE4D38-0A50-4E37-ABA5-C214EA62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529CB-A6E2-494C-88E1-335B3EAB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AB4452-AB5F-48F8-BE8B-1FB2D275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811DBE-7BE2-4B1F-BD7A-DE1ABB5B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A63B68-085C-46DB-AF65-F38F7000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F3FE5C-4E50-4D5E-B826-9FD28E79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1FAF6C-3DB3-44F8-A60E-EC5A66BF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D9EC55-C1F2-4356-AF91-6E715372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75800-5D7F-4DF7-8A78-48B56D27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094FE3-D5CE-43C0-9AC4-B872839D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E3D2-E15F-4808-81ED-91314940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7401D0-4F0D-43B1-8CC2-9CF1907A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CB0305-8D10-4A52-B837-001D951A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E873DB-8AF7-432A-9030-9C4B7F70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F476E8-8F13-48AC-8973-91F7D974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2F35A6-DC07-4A00-A075-5C5F01AF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C8181-3F16-4477-99FC-7B02A57D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8A94BB-0A36-4BC4-8D89-A9918EB3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256E74-CFDB-425C-96AE-575D46DD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9338BA-2E76-4530-9B30-24077C2F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84774C-DB5B-4B7E-8CED-199FD0B7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4B7A5-9FBA-41ED-8861-E73F4482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A05615-5B5D-4CA8-BE4C-FD9C9BF1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F37487-07BC-4986-B946-76E73E0E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C9D5E-5936-4E44-9B40-20B1D484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486E-8E26-456A-BFC5-438988F3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E1BE-DBBE-462C-803F-0C4420B7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CCEF8-902F-4D1E-95C9-36C1E76E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D8CA2-F987-4DA2-A5BA-7E760F66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C7C-242E-4DCC-B5A3-C6E409C8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EFF1-889B-413E-ACF9-306531BA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1BB7B-B03F-412B-9844-EFA0A99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95F4F-43CC-47A5-BA7C-D0676B0E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2908-5499-49AD-8BF1-130F76C3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AB1A-F994-46B8-AD2F-FC71D998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5BD7-0EC9-43EE-85CF-CA6C06D8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68369-006D-432C-9FF9-378146BB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1877C-6639-467D-B0D7-E785E9A2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00D8-B2B1-43E0-8CA6-99330076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03A47-EADE-4B88-A189-98BAD7BB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70F-39F8-4856-BC81-053A8C55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38DDF-6A6B-42DD-B24A-B0A165D1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00610-6F51-4CE0-9E1E-914DD84D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FED5-58D1-47A9-A050-D02C99CA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58B8D-D707-46A7-90A4-B059C722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44478-C8EA-4692-B4E0-2D99302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B921E-4A59-4EBD-9D53-08C48E85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F4EDA-B5DC-448F-B766-78963B43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8E006-8837-45BC-AB3D-C34164F8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8ABBE-12CE-4C4C-A535-B62B7627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56477-FBFE-4BB8-8D9C-B8F3DA9A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79C-B0EE-40E1-B39C-A14DA4BF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C4520-5F0F-45AA-8A7E-D37874DC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7BB76-33C5-4C36-B7EA-3D67D3D3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95169-EBAE-4B25-8987-74E0D398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3FF17-75D8-4C8C-A78E-97D89B3D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A35E1-C750-4430-935E-A568E1B9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B3BB9-AA38-4081-9E3C-3436D46B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0564-148C-4C26-BC1B-EEE52A63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A8399-BC76-4693-B0AB-CC2D8588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8D9A-FD0A-4D9C-AAE0-AF55A032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0A5CE-8905-4625-8202-A68DD88F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D0C-1978-4A66-ACEF-1F585250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09928-F5FE-4E1A-8291-E6556FCB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8B239-A1C6-43F1-A61D-C5C25118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F7208-A3ED-405C-A55A-E3F380E7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1707B-A611-442A-9955-1349CB09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4F717-D574-4033-9FF1-6A1588FC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4F191-040B-45D1-8DE5-CC2BF6CA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FC80-B4BD-4746-91E4-B61599858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D447CC-7FB1-4E33-938D-26D51FA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418C0-1133-4EE4-A8E0-4A7E3D20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E139-D1CB-418A-AFFA-13CBD2D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FA3-834A-4594-8977-EC06DB94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E876D-5602-41A0-8C94-5E7329A5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DF400-ADEF-4522-B5E0-1517DF33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72A03-2CEB-4DE9-9A13-27E966D2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2E901-ABBB-4CD3-A0CD-02A75C0C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41532-925B-4469-B866-0A1F8C2B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81367-4BF1-40CA-BD6A-0FAB8D0C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CC088-D09C-4C31-A62D-D796443B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817F4-9463-40E5-94F6-36832CA6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D959-24BA-4332-9E3C-2AD14726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675FF-0B45-410C-B65A-84A8BF96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752-243E-4CC0-9577-33028BB1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69AA5-1BDC-4044-A0A1-6F05568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26C94-93E4-486A-8969-D3B73D89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FDAB2-17EE-4E87-9CB0-50E744C8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D40C6-DDC8-4ECC-97D7-AB5952BC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EDB82-A0E2-46F9-A281-9BBF198D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A424F-FA91-4E3F-A0A3-6E02F401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45FB7-5691-4154-9C51-CD8E56FE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BF03-A586-43F1-904A-4877752C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921FE-9BB5-4B94-88C6-23DA95AE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625F1-005F-42B5-9383-BD5AE930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9055-D291-4D1D-9866-7DD77AC2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1803C-A473-425F-9DC1-B79AD7B7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9C237-5789-4693-82CC-FBE74C6B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D7557-BCE4-47CF-81C8-A29FB80C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FA773-8721-46EA-8CD7-C5964940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47CFD-01AE-480A-9740-4B8C135B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896E6-B660-4AFB-8B15-657333BA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DB7D9-F672-4EEC-A78D-90BFB6EE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1EAB0-84D2-4D5C-8D68-BF678939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5A89E-E1AF-4E7F-9CD9-3948A73F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3206B-FAB7-4E44-827B-DCE0C667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24C1-0593-4BE8-B26A-459CA0E73E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ACE6-CBBF-4743-B3B2-19B3C6C9F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E83C-319A-40AA-9ED9-E6EC73EF72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A998-32FB-4EEF-85D4-DA8D08FE77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1F89-2BE9-438B-95B4-33DACF0627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5354-311D-4A5F-A2A3-0B1F06BE26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804B-47D7-4F80-9BE0-48843A58D4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8859-BD0F-4F21-A177-2AA45CC4A8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0697-7FD4-4C0A-8AE5-1885EB06D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95DB-C03C-4736-B327-7DD402E2C8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152F-8F4A-4CB1-8DA0-561A332E50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3104-554B-4D02-A87E-1240A096F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EE99-DB81-42AF-8929-D1817ABAF9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7F8B-BD79-48F6-A6D2-8E2162D203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4876-5AEB-4A29-80E1-B5F959D081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CD21-E765-4A2F-BD18-D7D8CE166F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7B7B-79A2-4DED-B119-BA8C0ECAB3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F2B3-59BC-4461-BEEF-148CB74799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E2C3-3188-47F0-B574-0626021E17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0E1A-E9B2-47E6-8F4D-BBA6465BD3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B2DC-511E-4E19-A241-F0EDCC1644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574D-E054-4EEA-8767-71D1117612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5412-00AE-4E24-8FFE-6719B5723D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4349-1511-43D7-8F59-3A83B89BBB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9433-21BB-4BA1-B636-CBDA18495A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DABC-2DC0-4D68-8938-40B88CBB70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2AF0-6F26-4376-A370-15201B9B85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7386-749C-4891-BC6F-BEEB46638C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5CDF-5F67-4FAB-BB47-5411E22F4D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B47B-63CD-4336-AA31-6EBE12CE38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322E-1E5D-418E-9978-4328650F4C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4CCC-C5B1-4F2D-8D01-DA4DEF7CEE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9B60-BB0A-4CBC-B0DF-5978D0711D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702A-EE36-481F-9FA0-80DAE3F999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EC6B-EA4A-4C4A-9127-CEE52C09E1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E793-0FB3-4250-89F4-C905851B95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D2CF-D9A3-4241-9D0A-1D38F4B96E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4118-88BD-425B-868C-20D3CC3A47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4DC3-2E86-4795-ACAF-E58B677A09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F53F-E3E0-4EB6-8E5B-827B0B1812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185840" y="2060640"/>
            <a:ext cx="6772320" cy="7142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86040" y="3357720"/>
            <a:ext cx="35719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5840" y="719280"/>
            <a:ext cx="8572320" cy="5419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476360" y="48261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348000" y="486900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219640" y="479736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7236000" y="48117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1258920" y="558972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236000" y="563256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790560" y="2590920"/>
            <a:ext cx="7562880" cy="16761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2843280" y="3198960"/>
            <a:ext cx="1800000" cy="44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5724360" y="3630600"/>
            <a:ext cx="100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8373" descr=""/>
          <p:cNvPicPr/>
          <p:nvPr/>
        </p:nvPicPr>
        <p:blipFill>
          <a:blip r:embed="rId1"/>
          <a:stretch/>
        </p:blipFill>
        <p:spPr>
          <a:xfrm>
            <a:off x="328680" y="828720"/>
            <a:ext cx="8486640" cy="5200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2916360" y="3673440"/>
            <a:ext cx="36716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1071720" y="2581200"/>
            <a:ext cx="7000560" cy="16956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356000" y="351468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7" name="图片 56324" descr=""/>
          <p:cNvPicPr/>
          <p:nvPr/>
        </p:nvPicPr>
        <p:blipFill>
          <a:blip r:embed="rId1"/>
          <a:stretch/>
        </p:blipFill>
        <p:spPr>
          <a:xfrm>
            <a:off x="328680" y="814320"/>
            <a:ext cx="8486640" cy="5639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7920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5300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496000" cy="634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971640" y="614988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4276" descr=""/>
          <p:cNvPicPr/>
          <p:nvPr/>
        </p:nvPicPr>
        <p:blipFill>
          <a:blip r:embed="rId1"/>
          <a:stretch/>
        </p:blipFill>
        <p:spPr>
          <a:xfrm>
            <a:off x="228600" y="743040"/>
            <a:ext cx="8686800" cy="57816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826920" y="6035760"/>
            <a:ext cx="727416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54278" descr=""/>
          <p:cNvPicPr/>
          <p:nvPr/>
        </p:nvPicPr>
        <p:blipFill>
          <a:blip r:embed="rId3"/>
          <a:stretch/>
        </p:blipFill>
        <p:spPr>
          <a:xfrm>
            <a:off x="2616120" y="2724120"/>
            <a:ext cx="4476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2231" descr=""/>
          <p:cNvPicPr/>
          <p:nvPr/>
        </p:nvPicPr>
        <p:blipFill>
          <a:blip r:embed="rId1"/>
          <a:stretch/>
        </p:blipFill>
        <p:spPr>
          <a:xfrm>
            <a:off x="295200" y="865080"/>
            <a:ext cx="8553600" cy="537228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52232" descr=""/>
          <p:cNvPicPr/>
          <p:nvPr/>
        </p:nvPicPr>
        <p:blipFill>
          <a:blip r:embed="rId2"/>
          <a:stretch/>
        </p:blipFill>
        <p:spPr>
          <a:xfrm>
            <a:off x="1392120" y="3346560"/>
            <a:ext cx="69249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41:43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